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5425-C275-4F58-A74E-9A494A84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D1E8-D8AE-4839-BD73-F23A7CA9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CC2C-5B3E-4124-8E8F-B08C0812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C670-EE59-4680-BBEA-C2EFA3F5E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F931-A7CD-4D7C-861A-D9DDF67B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89B5-92C9-4E85-AB1A-6C0EFE38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8E75-E2DE-44B6-AE44-9BC33634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49E4-9076-49FD-820C-5AF9C678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E7BB-8A17-4272-B30C-BB52CAA2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53CF-D4C5-407E-AE33-2048567F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D8B5-04CA-4EC1-8383-944383CA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6CE3-6883-43AE-B64B-08C191D9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C23B-7A7E-4473-ACE4-A3DAB0BD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605A-8973-4B01-AC64-59ACC5A4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F147-7BC2-48EB-8C14-B7D64849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6265-59F5-459E-B0EA-D259900A9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D824-C9F5-4804-9D15-CF70FC3DC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36A2-2297-4017-8B76-888ADFD7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B49B-CCA7-4E02-887F-B86A85A2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2213-82F7-4EF0-9C9A-C0C1DDDB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724C-095D-466D-810B-309A296D1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D09D-7551-4AE0-B20A-3770908A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1CCD-8D04-4B05-87AF-1CAFBEEE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FB78-6101-4D63-BD97-D9DB360A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4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3544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897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8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7724-E602-4179-8B9B-40BD08FA219A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4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354418"/>
            </a:solidFill>
            <a:ln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3544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08F0-4DE5-43C4-8796-B3BAB9B06B47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8000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4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arm-u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your reactions to the following pictur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867280" y="2590920"/>
            <a:ext cx="2995560" cy="4114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514600" y="2590920"/>
            <a:ext cx="3173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4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Humanzee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12, 9/8/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Comerf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4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e and describe the traits and actions of humans and other prim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human traits and actions to those of prim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 the uniqueness, or not, of hum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4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ab Tim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897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makes us hum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897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: Jane Goodall’s story (pg. 1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: “Human Ap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4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you surprised by anything Dr. Goodall observed? What? 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reading and watching, do you focus more on similarities or differences of humans and chimps? Expl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 non-human organism per trait lis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ere any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rait that sets humans apart from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ther animals? Expl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06:17:10Z</dcterms:created>
  <dc:creator>Jimmer Comerford</dc:creator>
  <dc:description/>
  <dc:language>en-US</dc:language>
  <cp:lastModifiedBy>Jimmer Comerford</cp:lastModifiedBy>
  <dcterms:modified xsi:type="dcterms:W3CDTF">2009-09-08T06:25:59Z</dcterms:modified>
  <cp:revision>2</cp:revision>
  <dc:subject/>
  <dc:title>Warm-up</dc:title>
</cp:coreProperties>
</file>